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95A2-F995-4649-929B-C3138DBBB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9C6E-2F22-4AF3-835A-BAE627546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F10D-0F3B-4604-B49D-8A25F2948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98EB-8148-40D4-A7F0-F6713C053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52DE-7A5E-4083-9812-B8D29DB96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70B4-D697-4768-ADE6-0B5C8DEB0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0338-F8B6-4FCA-912F-4EEBCCC79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819B-C377-476C-BD30-E12E2E2F1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E977-C76A-4E6B-86AC-08763A039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080B-9AB3-4DE0-93DE-EE8EA3C4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14B5-F488-4C98-8FA0-F7894DC3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371F-99F1-496C-9716-C6CCA8A1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D1A18-923D-48DF-80BC-BE09CDEAD894}" type="slidenum">
              <a:rPr b="0" lang="ar-L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4356000" cy="100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0" spc="-1" strike="noStrike" u="sng">
                <a:solidFill>
                  <a:srgbClr val="000000"/>
                </a:solidFill>
                <a:uFillTx/>
                <a:latin typeface="Arial"/>
                <a:cs typeface="AF_Diwani"/>
              </a:rPr>
              <a:t>نشيد المناولة: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000" spc="-1" strike="noStrike">
                <a:solidFill>
                  <a:srgbClr val="000000"/>
                </a:solidFill>
                <a:latin typeface="Tahoma"/>
                <a:cs typeface="Tahoma"/>
              </a:rPr>
              <a:t>ربي أنا ورقة بيضاء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63640" y="0"/>
            <a:ext cx="6156360" cy="136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Arial"/>
                <a:cs typeface="Akhbar MT"/>
              </a:rPr>
              <a:t>ربّي أنا ورقةٌ بيضاء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Arial"/>
                <a:ea typeface="Akhbar MT"/>
              </a:rPr>
              <a:t> أُرسُم عليه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Arial"/>
                <a:cs typeface="Akhbar MT"/>
              </a:rPr>
              <a:t>كلَّ ما تشاء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5661000"/>
            <a:ext cx="889308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6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Arial"/>
                <a:cs typeface="Akhbar MT"/>
              </a:rPr>
              <a:t>إنّي الشراعُ وأنتَ الريح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589720"/>
            <a:ext cx="889308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6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Arial"/>
                <a:cs typeface="Akhbar MT"/>
              </a:rPr>
              <a:t>هيّا ارحلْ بي حيثما تشاءْ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008000" y="115920"/>
            <a:ext cx="6156360" cy="136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Arial"/>
                <a:cs typeface="Akhbar MT"/>
              </a:rPr>
              <a:t>ربّي أنا ورقةٌ بيضاء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Arial"/>
                <a:ea typeface="Akhbar MT"/>
              </a:rPr>
              <a:t> أُرسُم عليه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Arial"/>
                <a:cs typeface="Akhbar MT"/>
              </a:rPr>
              <a:t>كلَّ ما تشاء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50920" y="414360"/>
            <a:ext cx="5292720" cy="107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8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cc00"/>
                </a:solidFill>
                <a:latin typeface="Arial"/>
                <a:cs typeface="Akhbar MT"/>
              </a:rPr>
              <a:t>إنّي اليراع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8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cc00"/>
                </a:solidFill>
                <a:latin typeface="Arial"/>
                <a:cs typeface="Akhbar MT"/>
              </a:rPr>
              <a:t>وأنتَ الفكر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8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cc00"/>
                </a:solidFill>
                <a:latin typeface="Arial"/>
                <a:cs typeface="Akhbar MT"/>
              </a:rPr>
              <a:t>هيّا اكتُبْ بي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8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cc00"/>
                </a:solidFill>
                <a:latin typeface="Arial"/>
                <a:ea typeface="Akhbar MT"/>
              </a:rPr>
              <a:t> كيفما تشاء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08000" y="115920"/>
            <a:ext cx="6156360" cy="136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Arial"/>
                <a:cs typeface="Akhbar MT"/>
              </a:rPr>
              <a:t>ربّي أنا ورقةٌ بيضاء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Arial"/>
                <a:ea typeface="Akhbar MT"/>
              </a:rPr>
              <a:t> أُرسُم عليه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Arial"/>
                <a:cs typeface="Akhbar MT"/>
              </a:rPr>
              <a:t>كلَّ ما تشاء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81080" y="587520"/>
            <a:ext cx="8962920" cy="78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7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إنّي القيثارُ وأنتَ اللحن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7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7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7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هيّا اعزفْ بي قدرَ ما تشاء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31640" y="115920"/>
            <a:ext cx="6156360" cy="13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4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Arial"/>
                <a:cs typeface="Akhbar MT"/>
              </a:rPr>
              <a:t>ربّي أنا ورقةٌ بيضاء أُرسُم عليه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4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Arial"/>
                <a:cs typeface="Akhbar MT"/>
              </a:rPr>
              <a:t>كلَّ ما تشاء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5T20:21:46Z</dcterms:created>
  <dc:creator>Charbel Azar</dc:creator>
  <dc:description/>
  <dc:language>en-US</dc:language>
  <cp:lastModifiedBy>Charbel Azar</cp:lastModifiedBy>
  <dcterms:modified xsi:type="dcterms:W3CDTF">2002-07-05T13:17:24Z</dcterms:modified>
  <cp:revision>7</cp:revision>
  <dc:subject/>
  <dc:title>Slide 1</dc:title>
</cp:coreProperties>
</file>